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F56-2580-44F0-9CFD-5A38226E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392-F970-41E6-A2D0-6D373BA7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6D3-5D0C-4372-9543-77181A9F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BA3-9287-431B-B4F6-F2D14DCF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875-D363-4118-A1C1-694EBFED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9A3-B0E2-4C98-BA9D-628D52CF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00D-281E-4C0A-8F71-B8736805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C5D-77BA-4D09-90A6-8069123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282-EBB4-4F82-AD49-7E3560C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FCF-E1BD-4225-9681-7B8F07D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459-F41D-4C84-B90E-1ED8CF57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113-CE64-4128-867E-33C30F1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574B-E30F-4421-92AB-64A95D5D5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03320" y="944640"/>
            <a:ext cx="92059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ряд на обкладках конденсатора изменяется по гармоническому зак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иод колебаний определяется формулой Томс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лебания в идеальном колебательном контуре являются свободными, т.е. происходят без потери энер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686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йти магнитную индукцию в центре тонкого кольца, по которому течёт ток силой 10 А. Радиус кольца равен 5 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 проводнику в виде тонкого кольца радиусом 10 см течёт ток. Чему равна сила тока, если магнитная индукция поля в точке А равна 1 мкТл? Угол бета равен 10 граду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му равна частота колебаний в колебательном контуре, если ёмкость конденсатора 1 мкФ, а индуктивность катушки 10 Г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сунок к задаче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191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Электрический ток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 – это упорядоченное движение электрических зарядов. Для возникновения электрического тока необходимы носители зарядов и постоянное существование электрического поля (разности потенциал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Постоянный ток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 – это ток, одинаковый в любом поперечном сечении неразветвлённой цепи (ток, не меняющийся со временем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Переменный ток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 – это ток, меняющийся во времен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Квазистационарный ток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 – это переменный ток, медленно меняющийся во време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гнитное п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Магнитное поле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вид материи, посредством которого осуществляется взаимодействие токов. Свойства магнитного по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гнитное поле действует на движущиеся зар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вижущиеся заряды создают магнитное 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сточником магнитного поля являются движущиеся электрические заряды, т.е. т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ыт Эрст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пыт Эрстеда был произведён в 1920г. Эрстед поместил над магнитной стрелкой прямолинейный провод, параллельный стрелке. Стрелка могла свободно вращаться вокруг вертикальной оси. При пропускании по проводу электрического тока стрелка отклонялась в сторону и устанавливалась перпендикулярно к проводу. При изменении направления тока стрелка поворачивалась на 180°. То же самое происходило, когда провод переносился вниз и располагался под стрелкой. На этом опыте была впервые установлена связь между электрическими и магнитными явления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озьмём два длинных прямых провода, по которым течёт электрический ток. Вокруг каждого из проводников возникает магнитное поле. Магнитное поле первого проводника действует с некоторой силой на второй проводник, и наоборот, магнитное поле второго проводника действует с некоторой силой на первый проводник. Если на­правления токов в обоих проводах одинаковы, то возникающие силы стре­мятся уменьшить расстояние</a:t>
            </a: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ежду проводами; если же токи направлены противоположно, то эти силы стремятся увеличить рас­стояние</a:t>
            </a: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: параллельные токи притягиваются, антипараллель­ные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— </a:t>
            </a: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отталкивают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Индукция магнитного поля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екторная величина, равная отношению максимального механического момента контура с током к его магнитному момент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Магнитный момент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величина, равная произведению силы тока в проводнике на площадь, ограниченную данным проводни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Принцип суперпозиции магнитных полей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: Магнитные поля отдельных движущихся зарядов векторно складываются, причём каждый заряд возбуждает поле, совершенно не зависящее от наличия других заряд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"/>
              <p:cNvSpPr txBox="1"/>
              <p:nvPr/>
            </p:nvSpPr>
            <p:spPr>
              <a:xfrm>
                <a:off x="3809880" y="2057400"/>
                <a:ext cx="1611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гнитное поле провод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рямой провод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центре кругового т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1486080" cy="74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657600" y="4286160"/>
            <a:ext cx="15145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кон электромагнитной инду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ткрыт в 1831 году Майклом Фараде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то явление заключается в возникновении электрического тока (ЭДС индукции) в замкнутом проводящем контуре, который либо движется в постоянном магнитном поле, либо покоится в переменном магнитном 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581280" y="4800600"/>
            <a:ext cx="206856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ектромагнитные колебания могут возникать в цепи, содержащей индуктивность и ёмкость. Такая цепь называется колебательным конту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авнение электромагнитных колебаний в колебательном контуре име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ение урав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050920" cy="533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743200" y="5486400"/>
            <a:ext cx="4025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20:02:25Z</dcterms:modified>
  <cp:revision>6</cp:revision>
  <dc:subject/>
  <dc:title>Слайд 1</dc:title>
</cp:coreProperties>
</file>